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F9B4-2FBF-43F7-B5E1-DBB912605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81F3-1C89-4F7A-8F4A-D384C239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9AC6-F8D8-4354-B440-AE9F2F604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367D-D65C-4DDB-BD69-AB4905C82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C6E1-C037-4844-9F00-B9BF599C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F500-D6FF-4EF7-A452-A174F3CE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A20D-0516-4EB9-AB4A-AFB0D9B6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EC3F-57C6-4694-AE21-5948B9D3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2B2F-EB8B-4E95-9CC6-B2641E28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591E-C226-4445-BA77-E176683A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F872-540D-425E-927C-1221FF79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C4E2-E0A7-46CB-8B4A-1ED9698F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315D-8277-4FB6-8987-BDC550A58708}" type="slidenum">
              <a:rPr b="0" lang="en-US" sz="14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192.168.123.16/etwolf.tar.gz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게임 소개 및 진행 방법</a:t>
            </a: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목적 설명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2" name=""/>
          <p:cNvSpPr/>
          <p:nvPr/>
        </p:nvSpPr>
        <p:spPr>
          <a:xfrm>
            <a:off x="1220400" y="795240"/>
            <a:ext cx="25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5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회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KLDP CodeF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Key Binding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1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칼질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2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권총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(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레벨업 시 쌍권총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3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소총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혹은 자신의 메인 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4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수류탄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첫 클릭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onMouseDown)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기준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초 후 폭발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버튼 누르기를 유지해서 쥐고 있을 수 있음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Key Binding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5, 6, 7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직업별 특수 기능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Soldier 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기능 없음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주사기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Health Pack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아드레날린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레벨업 후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펜치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건물건설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지뢰매설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/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해체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)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다이너마이트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지뢰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공중 폭격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Ammo pack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연막탄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Satchel(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원격 조종 폭탄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), 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Voice Chat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V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보이스 챗 메뉴 보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21 : Need a medic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22 : Need an ammo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43 : Thanks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45 : Sorry!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586 : Good Game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기타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리스폰 타임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화면 오른 쪽에 두 개의 타이머가 표시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파란 숫자는 리스폰 타임까지 남은 시간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사망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HP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를 모두 소모할 경우 빈사상태 돌입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이 상태에서 메딕을 기다리거나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, Space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를 눌러 리스폰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Queue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에 들어갈 수 있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스프린트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Shift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키를 눌러 더 빨리 달릴 수 있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게이지에 의한 제한이 가해짐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에너지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엔지니어가 건설을 하거나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메딕이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Health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팩을 뿌리는 등의 활동은 게이지를 소모한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Command Post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를 지을 경우 에너지 회복이 빨라진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게임 진행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A, B : CodeFest ETHost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C, D : CodeFest ETHost 2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승리 팀 진출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5~10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분간의 예비 게임 후 성적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XP)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에 따라 팀을 섞습니다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피날레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참가자 제한을 두지 않은 무제한 시합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게임 소개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Return to Castle Wolfenstein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자유 소프트웨어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(Free Software)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RTCW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와는 독립적인 프로그램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Axis VS Allies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하나의 시나리오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두 개의 팀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	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서로 다른 목적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(Mission Objective)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Supply Depot (Fixed)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Allies –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공격측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Axis –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수비측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목표 요약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공격측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차량 진행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금 탈취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수비측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차량 진행 방해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주요 거점 폭파 방지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금 탈취 저지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임무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돋움"/>
              </a:rPr>
              <a:t>Allies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Breach the Forward Bunker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Breach the Depot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Escort the Allied truck to the depot cran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Construct the crane controls on the upper level of the Depot warehouse, and operate the crane to load the gold onto the Truck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Escort the Allied truck out of the Depot and escape with the gold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돋움"/>
              </a:rPr>
              <a:t>Axis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Stop the Allies from breaching the Forward Bunker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Stop the Allies from breaching the Depot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Ensure that the Allied truck does not reach the Depot cran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Stop the Allies from constructing the crane controls on the upper level of the Depot warehouse, and don’t let them operate the cran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Do not allow the Allied truck to escape with the gold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-185760"/>
            <a:ext cx="9144000" cy="70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환경설정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wget </a:t>
            </a:r>
            <a:r>
              <a:rPr b="0" lang="ko-KR" sz="3200" spc="-1" strike="noStrike" u="sng">
                <a:solidFill>
                  <a:srgbClr val="009999"/>
                </a:solidFill>
                <a:uFillTx/>
                <a:latin typeface="돋움"/>
                <a:hlinkClick r:id="rId2"/>
              </a:rPr>
              <a:t>http://192.168.123.16/etwolf.tar.gz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유저홈디렉토리에서 압축을 풀어주십시오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tar xzpf etwolf.tar.gz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`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키를 이용해 콘솔을 사용하십시오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	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	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/name sTaNia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서버 접속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ost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로 지정된 분들은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ost Game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으로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Start Server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를 해주십시오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Client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분들은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Play Online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으로 들어가셔서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Server Type : Local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을 선택하시면 호스트들이 보일겁니다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게임 다운로드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192.168.123.16/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ns.hellocity.net/~iolo/files/temp/et-linux-2.60.x86.run.zip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윈도우용 바이너리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ns.hellocity.net/~iolo/files/temp/WolfET.exe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ns.hellocity.net/~iolo/files/temp/ET_Patch_2_60.exe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Key Binding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W A S D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이동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F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줍기</a:t>
            </a: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장치 조작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X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포복자세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C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앉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Q, E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살짝 옆을 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R : Reload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B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쌍안경 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G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전체 맵 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2T09:36:12Z</dcterms:created>
  <dc:creator>stania</dc:creator>
  <dc:description/>
  <dc:language>en-US</dc:language>
  <cp:lastModifiedBy>stania</cp:lastModifiedBy>
  <dcterms:modified xsi:type="dcterms:W3CDTF">2005-07-24T17:26:14Z</dcterms:modified>
  <cp:revision>9</cp:revision>
  <dc:subject/>
  <dc:title>Slide 1</dc:title>
</cp:coreProperties>
</file>