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4B02-D7AD-4EC3-A27D-2A3F4157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705F-2D8B-4FFF-BF7F-018C0921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6486-2D31-4264-8750-C4115D239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8E14-D516-4F9F-8FFA-65C32316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ADB-AE62-4BE2-86F8-70389D6E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48A6-A669-4B1F-A408-DA12694B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072-D6B7-4F10-BC8D-64E4D049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4B90-C86D-4763-8536-9112CDA0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C421-0648-4810-90CB-9DFB3C3B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6C3B-446B-499B-BB5C-DC604B2E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C015-4FA5-4DB0-90B4-5D4D8CC0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E8C-20A5-42F4-B4F9-800576D9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6C18-2CED-4C70-8B6C-70837D15A6F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임베디드 시스템 개발 프로세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임베디드 시스템 연구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연구실 신입생 및 학부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학년 학생 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교육 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목차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교육 준비 재료 및 비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구실 신입생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학부생 과정 확정 후 결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학기 컴퓨터 구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은 지금 교재 그대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중심으로 설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과 병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 수업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~3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 일찍 끝내고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수업 진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보드는 개인 구매 필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312840"/>
          <a:ext cx="8424720" cy="6140520"/>
        </p:xfrm>
        <a:graphic>
          <a:graphicData uri="http://schemas.openxmlformats.org/drawingml/2006/table">
            <a:tbl>
              <a:tblPr/>
              <a:tblGrid>
                <a:gridCol w="1584360"/>
                <a:gridCol w="4968720"/>
                <a:gridCol w="1871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RM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XA270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초 회로도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도 읽는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, CLOCK, RESET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 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RIAL, 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SERIAL/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C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ulato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연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XA27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시리얼 출력 – 자신의 보드에서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기화 없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숙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념 설명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 과정을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~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 먼저 끝내고 부트 로더 과정만 집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정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메모리 컨트롤러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램으로 이동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공개 부트로더 소스 읽고 이해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몇가지 설정값만 직접 작성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리얼 출력까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최종 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마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포팅 실습 중심 수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, 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원으로 나눠서 개별 수업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5280" y="981000"/>
          <a:ext cx="8424720" cy="537696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 및 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latform Buil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포팅하는데 있어서 사용되는 기본 툴의 사용법을 숙지하고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간단한 버튼을 이용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rive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제작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특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ootload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부트로더 구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드에 사용된 코어에 맞게 레지스터를 구성하는 법 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의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역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인터럽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plication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Mana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바이스 드라이버의 구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드웨어와 디바이스 드라이버와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디바이스 드라이버 작성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911160"/>
          <a:ext cx="8424720" cy="575784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운영체제 개론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측면에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설치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베디드 개발 프로세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도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사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cc,gdb,make,v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툴과 기초 사용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환경 설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ross-compil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JTAG/bootpd/tftpd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환경 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소스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과 부팅 순서에 따른 함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열어보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컴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커널 컴파일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추가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포팅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리 패치된 커널 컴파일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의 옵션 익히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anilla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포팅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 소스 구조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수정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접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루트 파일 시스템 로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총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보드 개발 비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CB : 20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2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장 – 약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 : 5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+ 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BGA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조립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메모리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4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FLASH, SDRA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JTAG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케이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시리얼 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2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2421000"/>
            <a:ext cx="2735280" cy="32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307280" y="3429000"/>
            <a:ext cx="1081080" cy="115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342900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291280" y="2565360"/>
            <a:ext cx="64908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5291280" y="3284640"/>
            <a:ext cx="649080" cy="57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JTA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14:22:48Z</dcterms:created>
  <dc:creator>E</dc:creator>
  <dc:description/>
  <dc:language>en-US</dc:language>
  <cp:lastModifiedBy>E</cp:lastModifiedBy>
  <dcterms:modified xsi:type="dcterms:W3CDTF">2005-12-22T17:14:10Z</dcterms:modified>
  <cp:revision>9</cp:revision>
  <dc:subject/>
  <dc:title>슬라이드 1</dc:title>
</cp:coreProperties>
</file>