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CF42-D38D-4A4A-ABA7-3AA81C28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1C5-D2DF-41F0-B6E4-DFDDB879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381-0056-44C3-B333-844F89B8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554-1ABA-446E-A165-1C0590C9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15DE-D36F-4624-9505-02493023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E89F-9432-4C5E-9CCD-2A66E3B3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BE35-A260-41BB-BB7C-86482D4B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A7D-2C4E-484A-AD83-91A7AB39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11BC-7873-4731-BA17-1CCBE7C9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274-0760-4CC1-9CA8-3B05E643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C51-5C53-4319-A567-49EFD39E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737D-85F5-4B47-895F-E86EE449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F2FC-FC7E-4AC1-84D6-5A3F3FB557E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임베디드 시스템 개발 프로세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임베디드 시스템 연구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연구실 신입생 및 학부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학년 학생 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교육 과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목차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교육 준비 재료 및 비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구실 신입생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학부생 과정 확정 후 결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학기 컴퓨터 구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은 지금 교재 그대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중심으로 설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과 병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 수업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~3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 일찍 끝내고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수업 진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보드는 개인 구매 필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312840"/>
          <a:ext cx="8424720" cy="6140520"/>
        </p:xfrm>
        <a:graphic>
          <a:graphicData uri="http://schemas.openxmlformats.org/drawingml/2006/table">
            <a:tbl>
              <a:tblPr/>
              <a:tblGrid>
                <a:gridCol w="1584360"/>
                <a:gridCol w="4968720"/>
                <a:gridCol w="1871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RM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XA270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초 회로도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도 읽는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, CLOCK, RESET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 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RIAL, 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SERIAL/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C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ulato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연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XA27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시리얼 출력 – 자신의 보드에서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기화 없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숙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념 설명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 과정을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~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 먼저 끝내고 부트 로더 과정만 집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정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메모리 컨트롤러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램으로 이동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공개 부트로더 소스 읽고 이해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몇가지 설정값만 직접 작성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리얼 출력까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최종 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마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포팅 실습 중심 수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, 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원으로 나눠서 개별 수업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5280" y="981000"/>
          <a:ext cx="8424720" cy="537696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 및 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latform Buil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포팅하는데 있어서 사용되는 기본 툴의 사용법을 숙지하고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간단한 버튼을 이용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rive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제작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특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ootload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부트로더 구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드에 사용된 코어에 맞게 레지스터를 구성하는 법 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의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역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인터럽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plication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Mana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바이스 드라이버의 구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하드웨어와 디바이스 드라이버와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디바이스 드라이버 작성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95280" y="911160"/>
          <a:ext cx="8424720" cy="575784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운영체제 개론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측면에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설치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베디드 개발 프로세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도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사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cc,gdb,make,v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툴과 기초 사용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환경 설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ross-compil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JTAG/bootpd/tftpd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환경 설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소스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과 부팅 순서에 따른 함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열어보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컴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커널 컴파일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추가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포팅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리 패치된 커널 컴파일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의 옵션 익히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anilla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포팅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 소스 구조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수정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접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루트 파일 시스템 로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총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보드 개발 비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CB : 20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2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장 – 약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 : 5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+ 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BGA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조립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메모리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4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FLASH, SDRA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JTAG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케이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시리얼 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2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2421000"/>
            <a:ext cx="2735280" cy="32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307280" y="3429000"/>
            <a:ext cx="1081080" cy="115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342900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291280" y="2565360"/>
            <a:ext cx="64908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5291280" y="3284640"/>
            <a:ext cx="649080" cy="576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JTA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2T14:22:48Z</dcterms:created>
  <dc:creator>E</dc:creator>
  <dc:description/>
  <dc:language>en-US</dc:language>
  <cp:lastModifiedBy>E</cp:lastModifiedBy>
  <dcterms:modified xsi:type="dcterms:W3CDTF">2005-12-22T17:14:10Z</dcterms:modified>
  <cp:revision>9</cp:revision>
  <dc:subject/>
  <dc:title>슬라이드 1</dc:title>
</cp:coreProperties>
</file>