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C057-B0AE-4564-A1A6-95B90C1A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8A1-36E7-46E8-8E59-96C74AE1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BECB-8121-45B2-8B25-08CEF972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687B-074B-4646-86E1-AD6D3D3B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E643-16C9-4199-A046-CF772298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2A19-45B1-465F-86DC-13F09489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96E9-1A57-4C0C-A7DE-A0B20218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F7D-7180-4F84-987E-BE2922D6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BD1-0041-4014-947E-7C9E6C66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08D9-3C8F-4396-BE94-AC2673FF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6127-3EA9-449F-8E9E-B3EEF00E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494C-5965-496B-8A50-8FC42B34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돋움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F536-2C1F-4AA4-9355-81ECC9217482}" type="slidenum">
              <a:rPr b="0" lang="en-US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192.168.123.16/etwolf.tar.gz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게임 소개 및 진행 방법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목적 설명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2" name=""/>
          <p:cNvSpPr/>
          <p:nvPr/>
        </p:nvSpPr>
        <p:spPr>
          <a:xfrm>
            <a:off x="1220400" y="795240"/>
            <a:ext cx="25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5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회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KLDP CodeFe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1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칼질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2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권총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레벨업 시 쌍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3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소총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혹은 자신의 메인 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4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류탄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첫 클릭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onMouseDown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준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초 후 폭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버튼 누르기를 유지해서 쥐고 있을 수 있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5, 6, 7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직업별 특수 기능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Soldier 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기능 없음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사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Health Pack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아드레날린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레벨업 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펜치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건물건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매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해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다이너마이트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지뢰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중 폭격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Ammo pack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연막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Satchel(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원격 조종 폭탄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Voice Chat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V :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보이스 챗 메뉴 보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1 : Need a medic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22 : Need an ammo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3 : Thanks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45 : Sorry!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V586 : Good Game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기타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리스폰 타임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화면 오른 쪽에 두 개의 타이머가 표시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파란 숫자는 리스폰 타임까지 남은 시간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사망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P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모두 소모할 경우 빈사상태 돌입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이 상태에서 메딕을 기다리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Spac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눌러 리스폰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Queue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에 들어갈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스프린트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Shif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키를 눌러 더 빨리 달릴 수 있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게이지에 의한 제한이 가해짐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돋움"/>
              </a:rPr>
              <a:t>에너지</a:t>
            </a:r>
            <a:endParaRPr b="0" lang="en-US" sz="24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엔지니어가 건설을 하거나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메딕이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Health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팩을 뿌리는 등의 활동은 게이지를 소모한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Command Post 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를 지을 경우 에너지 회복이 빨라진다</a:t>
            </a:r>
            <a:r>
              <a:rPr b="0" lang="ko-KR" sz="20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진행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A, B : CodeFest ETHost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C, D : CodeFest ETHost 2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승리 팀 진출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5~10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분간의 예비 게임 후 성적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(XP)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에 따라 팀을 섞습니다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피날레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참가자 제한을 두지 않은 무제한 시합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소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eturn to Castle Wolfenstein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자유 소프트웨어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Free Softwar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RTCW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와는 독립적인 프로그램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VS Allies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하나의 시나리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두 개의 팀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서로 다른 목적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(Mission Objective)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Supply Depot (Fixed)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llie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공격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Axis –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수비측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목표 요약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공격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수비측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차량 진행 방해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주요 거점 폭파 방지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금 탈취 저지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임무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llie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Breach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to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Construct the crane controls on the upper level of the Depot warehouse, and operate the crane to load the gold onto the Truck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scort the Allied truck out of the Depot and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돋움"/>
              </a:rPr>
              <a:t>Axis</a:t>
            </a:r>
            <a:endParaRPr b="0" lang="en-US" sz="20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Forward Bunker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breaching the Depot Gate with dynamit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Ensure that the Allied truck does not reach the Depot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Stop the Allies from constructing the crane controls on the upper level of the Depot warehouse, and don’t let them operate the crane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돋움"/>
              </a:rPr>
              <a:t>Do not allow the Allied truck to escape with the gold</a:t>
            </a:r>
            <a:endParaRPr b="0" lang="en-US" sz="18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-185760"/>
            <a:ext cx="914400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환경설정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wget </a:t>
            </a:r>
            <a:r>
              <a:rPr b="0" lang="ko-KR" sz="3200" spc="-1" strike="noStrike" u="sng">
                <a:solidFill>
                  <a:srgbClr val="009999"/>
                </a:solidFill>
                <a:uFillTx/>
                <a:latin typeface="돋움"/>
                <a:hlinkClick r:id="rId2"/>
              </a:rPr>
              <a:t>http://192.168.123.16/etwolf.tar.gz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유저홈디렉토리에서 압축을 풀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돋움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돋움"/>
              </a:rPr>
              <a:t>tar xzpf etwolf.tar.gz</a:t>
            </a:r>
            <a:endParaRPr b="0" lang="en-US" sz="28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`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키를 이용해 콘솔을 사용하십시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/name sTaNia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서버 접속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로 지정된 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ost Gam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tart Server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를 해주십시오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Client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분들은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Play Online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으로 들어가셔서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Server Type : Local 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을 선택하시면 호스트들이 보일겁니다</a:t>
            </a: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돋움"/>
              </a:rPr>
              <a:t>게임 다운로드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192.168.123.16/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-linux-2.60.x86.run.zip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윈도우용 바이너리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WolfET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돋움"/>
              </a:rPr>
              <a:t>http://ns.hellocity.net/~iolo/files/temp/ET_Patch_2_60.exe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돋움"/>
              </a:rPr>
              <a:t>Key Binding</a:t>
            </a:r>
            <a:endParaRPr b="0" lang="en-US" sz="4400" spc="-1" strike="noStrike">
              <a:solidFill>
                <a:srgbClr val="ffffff"/>
              </a:solidFill>
              <a:latin typeface="돋움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W A S D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이동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F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줍기</a:t>
            </a: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장치 조작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X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포복자세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C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앉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Q, E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살짝 옆을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R : Reload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B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쌍안경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돋움"/>
              </a:rPr>
              <a:t>G : </a:t>
            </a:r>
            <a:r>
              <a:rPr b="0" lang="zh-CN" sz="3200" spc="-1" strike="noStrike">
                <a:solidFill>
                  <a:srgbClr val="ffffff"/>
                </a:solidFill>
                <a:latin typeface="돋움"/>
              </a:rPr>
              <a:t>전체 맵 보기</a:t>
            </a: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09:36:12Z</dcterms:created>
  <dc:creator>stania</dc:creator>
  <dc:description/>
  <dc:language>en-US</dc:language>
  <cp:lastModifiedBy>stania</cp:lastModifiedBy>
  <dcterms:modified xsi:type="dcterms:W3CDTF">2005-07-24T17:26:14Z</dcterms:modified>
  <cp:revision>9</cp:revision>
  <dc:subject/>
  <dc:title>Slide 1</dc:title>
</cp:coreProperties>
</file>